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A2C-8EF8-444A-BE75-E7B287063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F472-3E37-4840-BCEC-CC515BF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89C-CB3D-4920-8BF7-99C519A6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8BF6-4168-4B95-8902-ED58E3DC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04B5-F80A-413A-8CB4-6BF60A8B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081E-44E9-4B17-AFB0-F5AD370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B3A7-7E74-4FD3-8351-EE5C5925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FF7B-8FC7-4357-AC42-70A7EE26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C702-A2FA-4202-88E1-8D104C13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6D0A-9EC7-45BE-93AB-5876DB3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19F8-4ED4-4685-9ABA-3C36BF34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4E1-A177-449C-B5DD-49233C2E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0AD-BC69-4FEB-BDE6-2A886E69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11AD-EDFB-4E0A-97C3-BB06AAA0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2D8A3-355D-4068-8BD7-6E64839A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2E2-34A1-40C4-933A-865B418AA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294B-FCC2-42AC-BDCC-FEDBBE50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947-0980-4EFB-A8EC-0272874E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D6B-DA01-41E4-ABE3-CD2F58B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DE6-0BA4-4718-B74B-F111E12C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63E-E2E6-4D65-A3BA-A7742B22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0305-FF2B-4757-99EE-E9B14BAD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528-FD02-4D04-94C7-B28C1A2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292-A92A-418F-A8E9-3A2DCE4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F680-0EE5-4B42-8D68-24E0E9967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FB84-0717-4D1E-BB5D-C68E8F335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oad-to-the-isles.org.uk/highland-cattle.jpg&amp;imgrefurl=http://www.road-to-the-isles.org.uk/beauty.html&amp;h=176&amp;w=289&amp;sz=17&amp;tbnid=iYYLrzVL4ooJ:&amp;tbnh=66&amp;tbnw=108&amp;start=11&amp;prev=/images%3Fq%3Dcattle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erc.si.edu/forest_ecology/images/cornfiel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ating Lower on the Food Cha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6248520" cy="283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0" y="3200400"/>
            <a:ext cx="2286000" cy="1905120"/>
          </a:xfrm>
          <a:prstGeom prst="wedgeEllipseCallout">
            <a:avLst>
              <a:gd name="adj1" fmla="val -70208"/>
              <a:gd name="adj2" fmla="val 625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3581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hh, girls!!    I want to hear about this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Petroleu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ricans consume nearly as much fossil fuels at the supermarket as at the gas pu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ypical American burns about 530 gallons of gas each yea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riv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ating a meat based di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bbles up an additional 400  gallons of o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1916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acre of corn requires 140 gallons of oil to produ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ing corn directly maximizes the energy invest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corn goes to livestock, only about a fifth of the protein is returned as food, four-fifths is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dditional tid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quarter of all antibiotics produced are used in the U.S. for foo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originated veggies may have been sprayed with D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.A. water is full of DDT, washed off from foreign fruits and veggi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DT is stored in fat – linked to breast cancer (90% breast cancer patients have DDT in thei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on of Concerned Scientists: List of Top Things You Can Do to Help the Pla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1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rive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2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at less red meat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#3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erve on heating an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ling costs in the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w products are the wor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457164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arly  87% of our agricultural land (50% for cows alone!) is engaged in animal production for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790960" cy="2971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81680" y="1143000"/>
            <a:ext cx="1828800" cy="1600200"/>
          </a:xfrm>
          <a:prstGeom prst="wedgeEllipseCallout">
            <a:avLst>
              <a:gd name="adj1" fmla="val -43750"/>
              <a:gd name="adj2" fmla="val 471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BEG YOUR PARD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U.S. Crop % that goes to feed c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 -  90% of our soybeans, oats, wheat and co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0" y="1676520"/>
            <a:ext cx="4038480" cy="437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09480" y="4572000"/>
            <a:ext cx="5791320" cy="1143000"/>
          </a:xfrm>
          <a:prstGeom prst="wedgeEllipseCallout">
            <a:avLst>
              <a:gd name="adj1" fmla="val 47726"/>
              <a:gd name="adj2" fmla="val 47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!  You have a problem with t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w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15364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takes 16 lbs of wheat to make 1 lb of 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 gallons of water per lb of co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 lb of soybeans only takes about 260 gallons of w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typical North American Diet requires twice as much water to produce as less meat-intensive diets common in Asia and Euro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ting  lower on food chain : same water could feed double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nimal products use ½ the water in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dairy cow drinks about 29 gallons of water a day, and needs 40 additional gallons for sanitation, producing only 8 gallons of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Wa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llution (Deep Doo-Doo!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: agricultural runoff = primary pollution source for 60% of U.S. polluted rivers and str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ag. = 130 times more than human waste and equivalent to 5 tons per per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NOT TREATED BY A SEWAGE TREATMENT PL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ure from a 200-head dairy operation produces as much nitrogen as sewage from a town of 10,000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airy cow produces 120 lbs of waste a day, 12 times as much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total of 22 tons per  cow per ye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29400" y="5029200"/>
            <a:ext cx="22860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Got Tre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ting a plant based diet personally saves an acre of trees 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0 million acres of U.S. forests have been cleared for livestock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133720"/>
            <a:ext cx="32004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Our foreign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Central and South America, grazing and feed grain production are the leading economic forces behind rainforest destruc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quarter lb hamburger costs Mother Nature 55 square feet of forest l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is the world’s top beef im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ast food restaurant can claim to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y from a U.S. supplier bu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 are not required to declare the 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origin of their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086600" y="762120"/>
            <a:ext cx="1728720" cy="1670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Rainforest Beef Header Graphic"/>
          <p:cNvPicPr/>
          <p:nvPr/>
        </p:nvPicPr>
        <p:blipFill>
          <a:blip r:embed="rId2"/>
          <a:stretch/>
        </p:blipFill>
        <p:spPr>
          <a:xfrm>
            <a:off x="5562720" y="5213520"/>
            <a:ext cx="35812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2:10:32Z</dcterms:created>
  <dc:creator>tosborne</dc:creator>
  <dc:description/>
  <dc:language>en-US</dc:language>
  <cp:lastModifiedBy>tosborne</cp:lastModifiedBy>
  <dcterms:modified xsi:type="dcterms:W3CDTF">2010-10-22T20:49:37Z</dcterms:modified>
  <cp:revision>15</cp:revision>
  <dc:subject/>
  <dc:title>Eating Lower on the Food Chain</dc:title>
</cp:coreProperties>
</file>